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14C3-622C-446F-9247-8A00447C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A84-4E4D-42F5-972F-3AB2ED40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063-98F4-4FDF-8B70-53F3DE0F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430-6822-44FC-84B6-FDA8D0B1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A0B-D4FD-4959-BC9D-5BB1FB4A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80B-9A9B-4DE0-B01C-166E01A7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79E-0DE9-47F6-A100-7A43EE9D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6EC-DF96-470E-89DE-45BEA41C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F993-F70C-4DC6-93F5-798D7712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297-81E8-4B0B-BF28-B29D8468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2EB-EAFE-4027-ACDC-E04C17B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C43-DDBE-44AD-B502-8B7E0E8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8208-8F20-4039-92C9-484006C33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lberta High School Diploma Graduation Requirements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Minimum Requir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100 Cred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English Language Arts 30-1 or 30-2 (15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ocial Studies 30 or 33 (15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Math 20 Pure or 20 Applied or Math 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(10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Science 20,  Science 24, Biology 20, Chemistry 20  or Physics 20 (10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Physical Education 10 (3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CALM (3 Credit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10 CREDITS IN ANY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areer and Technology Studies (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ine 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econd 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hysical Education 20 and/or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ocally Developed Courses in CTS, fine arts, second languages, or K&amp;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K&amp;E occupational cour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10 CREDITS IN ANY 30 LEVEL COURSE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(PLUS English and Social Studie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ay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0 Level Maths and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5 Level locally developed cour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dvanced Level (3000) CTS cour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5 Level Work Exper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0-4 Level K&amp;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5 Level R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0 Level Green Certific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CERTIFICATE OF HIGH SCHOOL ACHIEVEMENT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Minimum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80 Cred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English Language Arts 20-2 or 3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athematics 14 or 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cience 14 or 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ocial Studies 10-2 or 20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Physical Education 10 (3 Cred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ALM 20 (3 Credi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PLUS 5 CREDITS 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Knowledge and Employability occupation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Career and Technology Studies (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locally developed course with an occupational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Calibri"/>
              </a:rPr>
              <a:t>AND 5 CREDITS 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Knowledge and Employability Workplace Practicum cours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Work Experienc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Green Certificate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30 LEVEL Registered Apprenticeship Program (RAP)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23:18:18Z</dcterms:created>
  <dc:creator>Norma Thompson</dc:creator>
  <dc:description/>
  <dc:language>en-US</dc:language>
  <cp:lastModifiedBy>owner</cp:lastModifiedBy>
  <dcterms:modified xsi:type="dcterms:W3CDTF">2010-11-19T18:37:08Z</dcterms:modified>
  <cp:revision>19</cp:revision>
  <dc:subject/>
  <dc:title>Alberta High School Diploma Graduation Requirements</dc:title>
</cp:coreProperties>
</file>